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520" y="475920"/>
            <a:ext cx="678168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901"/>
              </a:spcBef>
              <a:spcAft>
                <a:spcPts val="901"/>
              </a:spcAft>
              <a:buClr>
                <a:srgbClr val="000404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901"/>
              </a:spcBef>
              <a:spcAft>
                <a:spcPts val="901"/>
              </a:spcAft>
              <a:buClr>
                <a:srgbClr val="000404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18240" y="6378480"/>
            <a:ext cx="155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-</a:t>
            </a:r>
            <a:fld id="{DEF15CEB-EDFA-477D-89C6-05EF6E6A4D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404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376640" cy="13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114ffb"/>
                </a:solidFill>
                <a:latin typeface="Arial"/>
              </a:rPr>
              <a:t>Chapter 13</a:t>
            </a:r>
            <a:endParaRPr b="0" i="1" lang="en-US" sz="7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696080" cy="2133720"/>
          </a:xfrm>
          <a:prstGeom prst="rect">
            <a:avLst/>
          </a:prstGeom>
          <a:noFill/>
          <a:ln w="0">
            <a:noFill/>
          </a:ln>
          <a:effectLst>
            <a:outerShdw dist="179718" dir="2700000" blurRad="0" rotWithShape="0">
              <a:srgbClr val="cecece"/>
            </a:outerShdw>
          </a:effectLst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apital Budgeting Technique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5410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rson Education Limited 2004</a:t>
            </a:r>
            <a:endParaRPr b="0" lang="en-US" sz="1800" spc="-1" strike="noStrike">
              <a:solidFill>
                <a:srgbClr val="0004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s of Financial Management, 12/e</a:t>
            </a:r>
            <a:endParaRPr b="0" lang="en-US" sz="1800" spc="-1" strike="noStrike">
              <a:solidFill>
                <a:srgbClr val="0004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by: Gregory A. Kuhlemeyer, Ph.D.</a:t>
            </a:r>
            <a:endParaRPr b="0" lang="en-US" sz="1800" spc="-1" strike="noStrike">
              <a:solidFill>
                <a:srgbClr val="0004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oll College, Waukesha, WI</a:t>
            </a:r>
            <a:endParaRPr b="0" lang="en-US" sz="18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3352680"/>
            <a:ext cx="67057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676520"/>
            <a:ext cx="68580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BP Acceptance Criterio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Yes!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will receive back the initial cash outlay in less than 3.5 years.  [</a:t>
            </a: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3.3 Yea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3.5 Year Max</a:t>
            </a:r>
            <a:r>
              <a:rPr b="1" lang="en-US" sz="3200" spc="-1" strike="noStrike">
                <a:solidFill>
                  <a:srgbClr val="014a0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600200"/>
            <a:ext cx="68580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17521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nagement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sket Wonde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set a maximum PBP of 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3.5 yea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projects of this typ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Should this project be accep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05120" y="1676520"/>
            <a:ext cx="4495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7391160" cy="1676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BP Strengths 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br>
              <a:rPr sz="4400"/>
            </a:b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and Weakness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44956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 fontScale="87000"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2b200"/>
                </a:solidFill>
                <a:uFillTx/>
                <a:latin typeface="Arial"/>
              </a:rPr>
              <a:t>Strengths</a:t>
            </a:r>
            <a:r>
              <a:rPr b="1" lang="en-US" sz="3600" spc="-1" strike="noStrike">
                <a:solidFill>
                  <a:srgbClr val="42b2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9936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o use and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9936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be used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sur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9936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ier to foreca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 than LT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600200"/>
            <a:ext cx="44956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14440" y="19810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405d"/>
                </a:solidFill>
                <a:uFillTx/>
                <a:latin typeface="Arial"/>
              </a:rPr>
              <a:t>Weaknesses</a:t>
            </a:r>
            <a:r>
              <a:rPr b="1" lang="en-US" sz="3600" spc="-1" strike="noStrike">
                <a:solidFill>
                  <a:srgbClr val="e5405d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not accou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V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not consid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flows beyo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B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off period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4648320"/>
            <a:ext cx="8076960" cy="1371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1676520"/>
            <a:ext cx="70866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39116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114ffb"/>
                </a:solidFill>
                <a:latin typeface="Arial"/>
              </a:rPr>
              <a:t>Internal Rate of Return (IRR)</a:t>
            </a:r>
            <a:endParaRPr b="0" i="1" lang="en-US" sz="4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600200"/>
            <a:ext cx="70866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0160" y="1981080"/>
            <a:ext cx="8686800" cy="21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0069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the discount rate that equates the present value of the future net cash flows from an investment project with the project’s initial cash outfl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47800" y="4753080"/>
            <a:ext cx="58230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2320" y="5288040"/>
            <a:ext cx="7042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05080" y="5334120"/>
            <a:ext cx="154296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11720" y="5324400"/>
            <a:ext cx="154296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24760" y="5338800"/>
            <a:ext cx="154296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33880" y="5091120"/>
            <a:ext cx="113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. . . +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71440" y="509112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1760" y="5062680"/>
            <a:ext cx="1256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CO =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346120" y="3476520"/>
            <a:ext cx="5933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5,000       $10,000       $7,000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1676520"/>
            <a:ext cx="34290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RR Solutio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1600200"/>
            <a:ext cx="34290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84920" y="2181240"/>
            <a:ext cx="379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,000      $12,000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36400" y="2790720"/>
            <a:ext cx="38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404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50288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interest rate (</a:t>
            </a:r>
            <a:r>
              <a:rPr b="1" i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that causes the discounted cash flows to equal 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$40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00400" y="37051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0440" y="37051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48520" y="248616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4800" y="248616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9625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96252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96252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74320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74320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1040" y="2365200"/>
            <a:ext cx="199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$40,000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1880" y="4010040"/>
            <a:ext cx="5929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000404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28800" y="1676520"/>
            <a:ext cx="60958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RR Solution (Try 10%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1600200"/>
            <a:ext cx="609624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0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$12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0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5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0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$10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0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 7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0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(.909) + $12,000(.826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5,000(.751) + $10,000(.683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 7,000(.62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9,090 + $9,912 + $11,265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,830 + $4,34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$41,444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114ffb"/>
                </a:solidFill>
                <a:latin typeface="Arial"/>
              </a:rPr>
              <a:t>Rate is too low!!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8640" y="3703680"/>
            <a:ext cx="42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76160" y="5791320"/>
            <a:ext cx="1522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28800" y="1676520"/>
            <a:ext cx="60958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RR Solution (Try 15%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1600200"/>
            <a:ext cx="609624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5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$12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5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5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5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$10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5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 7,000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5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(.870) + $12,000(.756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5,000(.658) + $10,000(.572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 7,000(.49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8,700 + $9,072 + $9,870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720 + $3,47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36,841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e5405d"/>
                </a:solidFill>
                <a:latin typeface="Arial"/>
              </a:rPr>
              <a:t>Rate is too high!!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8640" y="3703680"/>
            <a:ext cx="42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676160" y="5791320"/>
            <a:ext cx="1522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$41,44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.0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$4,6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$36,84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$1,44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.0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$4,6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676520"/>
            <a:ext cx="6781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39116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RR Solution (Interpolate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600200"/>
            <a:ext cx="678204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08640" y="3703680"/>
            <a:ext cx="42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2057400"/>
            <a:ext cx="0" cy="152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2057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35812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057400"/>
            <a:ext cx="0" cy="152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2057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35812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76920" y="2225520"/>
            <a:ext cx="127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$1,444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2096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28195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22096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2096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22096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281952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71600" y="230184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4800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480060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47920" y="466416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.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1,44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.0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IR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f76f4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$4,6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.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6,84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,44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.0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$4,6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1676520"/>
            <a:ext cx="6781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39116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RR Solution (Interpolate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1600200"/>
            <a:ext cx="678204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08640" y="3703680"/>
            <a:ext cx="42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057400"/>
            <a:ext cx="0" cy="152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2057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35812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2057400"/>
            <a:ext cx="0" cy="152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2057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35812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6920" y="2225520"/>
            <a:ext cx="127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,444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22096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28195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22096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22096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22096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281952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71600" y="230184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4800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480060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47920" y="466416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1,44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2800" spc="-1" strike="noStrike">
                <a:solidFill>
                  <a:srgbClr val="cf76f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f76f4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$4,6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6,84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$1,444)(0.05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$4,603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1676520"/>
            <a:ext cx="6781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39116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RR Solution (Interpolate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1600200"/>
            <a:ext cx="678204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08640" y="3703680"/>
            <a:ext cx="42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2057400"/>
            <a:ext cx="0" cy="152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2057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35812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057400"/>
            <a:ext cx="0" cy="152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057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35812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76920" y="2225520"/>
            <a:ext cx="127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444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22096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28195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22096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2096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22096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81952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71600" y="230184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33520" y="4511520"/>
            <a:ext cx="723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480060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19720" y="4511520"/>
            <a:ext cx="1714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.0157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2600" y="5457960"/>
            <a:ext cx="687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.10 +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.015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 .1157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11.57%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95280" y="3352680"/>
            <a:ext cx="68580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1676520"/>
            <a:ext cx="6781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RR Acceptance Criterio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4419720"/>
            <a:ext cx="784872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No!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will receive 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11.57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each dollar invested in this project at a cost of </a:t>
            </a: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13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[ 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14a0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Hurdle Ra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1600200"/>
            <a:ext cx="678204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4920" y="17521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nagement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sket Wonde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determined that the </a:t>
            </a: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hurdle ra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13%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projects of this typ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Should this project be accep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14ffb"/>
                </a:solidFill>
                <a:latin typeface="Arial"/>
              </a:rPr>
              <a:t>After studying Chapter 13, you should be able to:</a:t>
            </a:r>
            <a:endParaRPr b="0" i="1" lang="en-US" sz="4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-685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nderstand the payback period (PBP) method of project evaluation and selection, including its: (a) calculation; (b) acceptance criterion; (c) advantages and disadvantages; and (d) focus on liquidity rather than profitability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nderstand the three major discounted cash flow (DCF) methods of project evaluation and selection – internal rate of return (IRR), net present value (NPV), and profitability index (PI)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plain the calculation, acceptance criterion, and advantages (over the PBP method) for each of the three major DCF methods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ine, construct, and interpret a graph called an “NPV profile.”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nderstand why ranking project proposals on the basis of IRR, NPV, and PI methods “may” lead to conflicts in ranking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scribe the situations where ranking projects may be necessary and justify when to use either IRR, NPV, or PI rankings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nderstand how “sensitivity analysis” allows us to challenge the single-point input estimates used in traditional capital budgeting analysis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plain the role and process of project monitoring, including “progress reviews” and “post-completion audits.”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67057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76520"/>
            <a:ext cx="670536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30320" y="1905120"/>
            <a:ext cx="2741760" cy="49528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648320" y="2133720"/>
            <a:ext cx="3886200" cy="3276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RRs on the Calculator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343400" y="2209320"/>
            <a:ext cx="411480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ill use the cash flow registry to solve the IRR for this problem quickly and accurately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600200"/>
            <a:ext cx="58672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1676520"/>
            <a:ext cx="58672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4038480"/>
            <a:ext cx="380880" cy="30492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4038480"/>
            <a:ext cx="380880" cy="30492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4038480"/>
            <a:ext cx="457200" cy="30492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6095880"/>
            <a:ext cx="381240" cy="30492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3733920"/>
            <a:ext cx="380880" cy="30456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3733920"/>
            <a:ext cx="380880" cy="30456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3733920"/>
            <a:ext cx="457200" cy="30456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781680" y="53341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581280"/>
            <a:ext cx="4572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48769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4495680"/>
            <a:ext cx="45720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4038480"/>
            <a:ext cx="4572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3124080"/>
            <a:ext cx="152388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3581280"/>
            <a:ext cx="83844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4038480"/>
            <a:ext cx="83844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4495680"/>
            <a:ext cx="83844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48769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53341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53341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48769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495680"/>
            <a:ext cx="99072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4038480"/>
            <a:ext cx="99072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581280"/>
            <a:ext cx="99072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3124080"/>
            <a:ext cx="6858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2666880"/>
            <a:ext cx="6858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5943600"/>
            <a:ext cx="76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1676520"/>
            <a:ext cx="65530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14ffb"/>
                </a:solidFill>
                <a:latin typeface="Arial"/>
              </a:rPr>
              <a:t>Actual IRR Solution Using Your Financial Calculator</a:t>
            </a:r>
            <a:endParaRPr b="0" i="1" lang="en-US" sz="4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1600200"/>
            <a:ext cx="65530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57913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62485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57913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62485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57913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1680" y="62485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eps in the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R 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F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    -40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7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8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9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705720" y="3200400"/>
            <a:ext cx="45720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3581280"/>
            <a:ext cx="4572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3581280"/>
            <a:ext cx="83844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4120" y="4038480"/>
            <a:ext cx="38088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3200400"/>
            <a:ext cx="83844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4952880"/>
            <a:ext cx="76212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4495680"/>
            <a:ext cx="76212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4038480"/>
            <a:ext cx="38088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23623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5943600"/>
            <a:ext cx="76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676520"/>
            <a:ext cx="65530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1600200"/>
            <a:ext cx="65530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2819520"/>
            <a:ext cx="45720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23623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819520"/>
            <a:ext cx="8384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23623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819520"/>
            <a:ext cx="99072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581280"/>
            <a:ext cx="99072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3200400"/>
            <a:ext cx="99072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14ffb"/>
                </a:solidFill>
                <a:latin typeface="Arial"/>
              </a:rPr>
              <a:t>Actual IRR Solution Using Your Financial Calculator</a:t>
            </a:r>
            <a:endParaRPr b="0" i="1" lang="en-US" sz="4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eps in the Process (Part 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0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1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2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7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3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4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5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6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42b200"/>
                </a:solidFill>
                <a:uFillTx/>
                <a:latin typeface="Arial"/>
              </a:rPr>
              <a:t>Internal Rate of Retur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42b200"/>
                </a:solidFill>
                <a:uFillTx/>
                <a:latin typeface="Arial"/>
              </a:rPr>
              <a:t>11.47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05120" y="1676520"/>
            <a:ext cx="4495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7391160" cy="1676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RR Strengths 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br>
              <a:rPr sz="4400"/>
            </a:b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and Weakness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114800" cy="4191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b200"/>
                </a:solidFill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42b200"/>
                </a:solidFill>
                <a:uFillTx/>
                <a:latin typeface="Arial"/>
              </a:rPr>
              <a:t>Strengths</a:t>
            </a:r>
            <a:r>
              <a:rPr b="1" lang="en-US" sz="3600" spc="-1" strike="noStrike">
                <a:solidFill>
                  <a:srgbClr val="42b200"/>
                </a:solidFill>
                <a:latin typeface="Arial"/>
              </a:rPr>
              <a:t>: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s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V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s a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1600200"/>
            <a:ext cx="44956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885840" y="1981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405d"/>
                </a:solidFill>
                <a:uFillTx/>
                <a:latin typeface="Arial"/>
              </a:rPr>
              <a:t>Weaknesses</a:t>
            </a:r>
            <a:r>
              <a:rPr b="1" lang="en-US" sz="3600" spc="-1" strike="noStrike">
                <a:solidFill>
                  <a:srgbClr val="e5405d"/>
                </a:solidFill>
                <a:latin typeface="Arial"/>
              </a:rPr>
              <a:t>: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s all cas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s reinvested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ies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rankings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IR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4724280"/>
            <a:ext cx="8076960" cy="1447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1676520"/>
            <a:ext cx="63244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Net Present Value (NPV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1600200"/>
            <a:ext cx="63244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PV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present value of an investment project’s net cash flows minus the project’s initial cash outflow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49720" y="4854600"/>
            <a:ext cx="4808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CF</a:t>
            </a:r>
            <a:r>
              <a:rPr b="1" lang="en-US" sz="3200" spc="-1" strike="noStrike" baseline="-25000">
                <a:solidFill>
                  <a:srgbClr val="114ff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CF</a:t>
            </a:r>
            <a:r>
              <a:rPr b="1" lang="en-US" sz="3200" spc="-1" strike="noStrike" baseline="-25000">
                <a:solidFill>
                  <a:srgbClr val="114ff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CF</a:t>
            </a:r>
            <a:r>
              <a:rPr b="1" lang="en-US" sz="3200" spc="-1" strike="noStrike" baseline="-25000">
                <a:solidFill>
                  <a:srgbClr val="114ff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57080" y="5364000"/>
            <a:ext cx="56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       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5410080"/>
            <a:ext cx="110484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5410080"/>
            <a:ext cx="106704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43520" y="5167440"/>
            <a:ext cx="113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04"/>
                </a:solidFill>
                <a:latin typeface="Arial"/>
              </a:rPr>
              <a:t>+ . . . +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38280" y="516744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04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51840" y="5062680"/>
            <a:ext cx="115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a27c"/>
                </a:solidFill>
                <a:latin typeface="Arial"/>
              </a:rPr>
              <a:t>ICO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5410080"/>
            <a:ext cx="114300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0200" y="513864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NPV 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sket Wonde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determined that the appropriate </a:t>
            </a:r>
            <a:r>
              <a:rPr b="1" lang="en-US" sz="3200" spc="-1" strike="noStrike">
                <a:solidFill>
                  <a:srgbClr val="380069"/>
                </a:solidFill>
                <a:latin typeface="Arial"/>
              </a:rPr>
              <a:t>discount rate (k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his project is </a:t>
            </a:r>
            <a:r>
              <a:rPr b="1" lang="en-US" sz="3200" spc="-1" strike="noStrike">
                <a:solidFill>
                  <a:srgbClr val="380069"/>
                </a:solidFill>
                <a:latin typeface="Arial"/>
              </a:rPr>
              <a:t>13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70880" y="4695840"/>
            <a:ext cx="345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$10,000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$7,000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1676520"/>
            <a:ext cx="358164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NPV Solutio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1600200"/>
            <a:ext cx="35812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70160" y="3476520"/>
            <a:ext cx="536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$10,000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$12,000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$15,000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56280" y="4010040"/>
            <a:ext cx="51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(1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.13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(1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.13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(1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.13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40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48120" y="37051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76920" y="37051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71800" y="500076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39625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48520" y="39625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39625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14600" y="525780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5257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82320" y="5032440"/>
            <a:ext cx="189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a27c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79680" y="5229360"/>
            <a:ext cx="31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(1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.13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(1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.13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0160" y="366084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NPV</a:t>
            </a: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05720" y="37051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828800" y="1676520"/>
            <a:ext cx="35812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NPV Solutio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52480" y="1600200"/>
            <a:ext cx="358164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NP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3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2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3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5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3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3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  7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VIF</a:t>
            </a:r>
            <a:r>
              <a:rPr b="1" lang="en-US" sz="2800" spc="-1" strike="noStrike" baseline="-25000">
                <a:solidFill>
                  <a:srgbClr val="cf76f4"/>
                </a:solidFill>
                <a:latin typeface="Arial"/>
              </a:rPr>
              <a:t>13%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114ffb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1" lang="en-US" sz="2800" spc="-1" strike="noStrike">
                <a:solidFill>
                  <a:srgbClr val="ffa27c"/>
                </a:solidFill>
                <a:latin typeface="Arial"/>
              </a:rPr>
              <a:t>$40,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NP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.885) +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2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.783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5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.693) +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1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.613)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  7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.543) - </a:t>
            </a:r>
            <a:r>
              <a:rPr b="1" lang="en-US" sz="2800" spc="-1" strike="noStrike">
                <a:solidFill>
                  <a:srgbClr val="ffa27c"/>
                </a:solidFill>
                <a:latin typeface="Arial"/>
              </a:rPr>
              <a:t>$40,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NP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8,850 + $9,396 + $10,395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,130 + $3,801 - </a:t>
            </a:r>
            <a:r>
              <a:rPr b="1" lang="en-US" sz="2800" spc="-1" strike="noStrike">
                <a:solidFill>
                  <a:srgbClr val="ffa27c"/>
                </a:solidFill>
                <a:latin typeface="Arial"/>
              </a:rPr>
              <a:t>$40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1,42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08640" y="3703680"/>
            <a:ext cx="42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219320" y="3352680"/>
            <a:ext cx="68580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1676520"/>
            <a:ext cx="693432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NPV Acceptance Criterio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No!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NP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This means that the project is reducing shareholder wealth.  [</a:t>
            </a:r>
            <a:r>
              <a:rPr b="1" i="1" lang="en-US" sz="3200" spc="-1" strike="noStrike">
                <a:solidFill>
                  <a:srgbClr val="42b200"/>
                </a:solidFill>
                <a:latin typeface="Arial"/>
              </a:rPr>
              <a:t>Re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42b200"/>
                </a:solidFill>
                <a:latin typeface="Arial"/>
              </a:rPr>
              <a:t>NPV</a:t>
            </a:r>
            <a:r>
              <a:rPr b="1" lang="en-US" sz="3200" spc="-1" strike="noStrike">
                <a:solidFill>
                  <a:srgbClr val="014a0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i="1" lang="en-US" sz="3200" spc="-1" strike="noStrike">
                <a:solidFill>
                  <a:srgbClr val="42b2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1600200"/>
            <a:ext cx="69343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6840" y="17521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nagement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sket Wonde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determined that the </a:t>
            </a:r>
            <a:r>
              <a:rPr b="1" lang="en-US" sz="3200" spc="-1" strike="noStrike">
                <a:solidFill>
                  <a:srgbClr val="380069"/>
                </a:solidFill>
                <a:latin typeface="Arial"/>
              </a:rPr>
              <a:t>required r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380069"/>
                </a:solidFill>
                <a:latin typeface="Arial"/>
              </a:rPr>
              <a:t>13%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projects of this typ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Should this project be accep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30320" y="1905120"/>
            <a:ext cx="2741760" cy="49528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648320" y="2133720"/>
            <a:ext cx="3886200" cy="236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NPV on the Calculator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343400" y="2209680"/>
            <a:ext cx="4114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use the cash flow registry to solve the NPV for this problem quickly and accuratel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28800" y="1600200"/>
            <a:ext cx="58672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1676520"/>
            <a:ext cx="58672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05120" y="4038480"/>
            <a:ext cx="380880" cy="30492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0" y="4038480"/>
            <a:ext cx="380880" cy="30492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4038480"/>
            <a:ext cx="457200" cy="30492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6095880"/>
            <a:ext cx="381240" cy="30492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3200" y="3733920"/>
            <a:ext cx="380880" cy="30456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3733920"/>
            <a:ext cx="457200" cy="30456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4800600"/>
            <a:ext cx="40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404"/>
                </a:solidFill>
                <a:uFillTx/>
                <a:latin typeface="Arial"/>
              </a:rPr>
              <a:t>Hint</a:t>
            </a: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: If you have </a:t>
            </a:r>
            <a:r>
              <a:rPr b="1" i="1" lang="en-US" sz="2400" spc="-1" strike="noStrike" u="sng">
                <a:solidFill>
                  <a:srgbClr val="000404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 cleared the cash flows from your calculator, then you may skip to Step 15.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3733920"/>
            <a:ext cx="380880" cy="30456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781680" y="53341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581280"/>
            <a:ext cx="4572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48769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4495680"/>
            <a:ext cx="45720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81680" y="4038480"/>
            <a:ext cx="4572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3124080"/>
            <a:ext cx="152388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3581280"/>
            <a:ext cx="83844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38680" y="4038480"/>
            <a:ext cx="83844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4495680"/>
            <a:ext cx="83844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48769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38680" y="53341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53341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8769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495680"/>
            <a:ext cx="99072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4038480"/>
            <a:ext cx="99072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3581280"/>
            <a:ext cx="99072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43400" y="3124080"/>
            <a:ext cx="6858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2666880"/>
            <a:ext cx="6858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120" y="5943600"/>
            <a:ext cx="76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1676520"/>
            <a:ext cx="65530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14ffb"/>
                </a:solidFill>
                <a:latin typeface="Arial"/>
              </a:rPr>
              <a:t>Actual NPV Solution Using Your Financial Calculator</a:t>
            </a:r>
            <a:endParaRPr b="0" i="1" lang="en-US" sz="4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1600200"/>
            <a:ext cx="65530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43400" y="57913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62485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7913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62485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81680" y="57913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81680" y="62485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eps in the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R 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F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    -40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7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8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9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5120" y="1676520"/>
            <a:ext cx="48006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391160" cy="1752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Capital Budgeting Techniqu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Evaluation and Se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tential Difficul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tal Ratio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Monito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-Completion Aud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600200"/>
            <a:ext cx="48006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705720" y="3200400"/>
            <a:ext cx="45720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00800" y="4952880"/>
            <a:ext cx="4572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05720" y="3581280"/>
            <a:ext cx="4572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581280"/>
            <a:ext cx="83844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4038480"/>
            <a:ext cx="38088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4952880"/>
            <a:ext cx="83808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38680" y="3200400"/>
            <a:ext cx="83844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5486400"/>
            <a:ext cx="6858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4952880"/>
            <a:ext cx="45720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495680"/>
            <a:ext cx="76212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4038480"/>
            <a:ext cx="38088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2362320"/>
            <a:ext cx="99072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5943600"/>
            <a:ext cx="76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5120" y="1676520"/>
            <a:ext cx="65530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1600200"/>
            <a:ext cx="65530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2819520"/>
            <a:ext cx="45720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2362320"/>
            <a:ext cx="4572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38680" y="2819520"/>
            <a:ext cx="8384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38680" y="2362320"/>
            <a:ext cx="8384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2819520"/>
            <a:ext cx="99072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81280"/>
            <a:ext cx="990720" cy="38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43400" y="3200400"/>
            <a:ext cx="99072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eps in the Process (Part 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0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1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2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0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7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3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0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nter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4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5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6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I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7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42b200"/>
                </a:solidFill>
                <a:uFillTx/>
                <a:latin typeface="Arial"/>
              </a:rPr>
              <a:t>Net Present Val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-</a:t>
            </a:r>
            <a:r>
              <a:rPr b="1" lang="en-US" sz="2800" spc="-1" strike="noStrike" u="sng">
                <a:solidFill>
                  <a:srgbClr val="42b200"/>
                </a:solidFill>
                <a:uFillTx/>
                <a:latin typeface="Arial"/>
              </a:rPr>
              <a:t>$1,424.4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14ffb"/>
                </a:solidFill>
                <a:latin typeface="Arial"/>
              </a:rPr>
              <a:t>Actual NPV Solution Using Your Financial Calculator</a:t>
            </a:r>
            <a:endParaRPr b="0" i="1" lang="en-US" sz="40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905120" y="1676520"/>
            <a:ext cx="4495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7391160" cy="1676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NPV Strengths 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br>
              <a:rPr sz="4400"/>
            </a:b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and Weakness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029200" cy="4724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 u="sng">
                <a:solidFill>
                  <a:srgbClr val="42b200"/>
                </a:solidFill>
                <a:uFillTx/>
                <a:latin typeface="Arial"/>
              </a:rPr>
              <a:t>Strengths</a:t>
            </a:r>
            <a:r>
              <a:rPr b="1" lang="en-US" sz="3600" spc="-1" strike="noStrike">
                <a:solidFill>
                  <a:srgbClr val="42b2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flow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d to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vested at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rdle rat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s for TV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s a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flow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1600200"/>
            <a:ext cx="44956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962160" y="190476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405d"/>
                </a:solidFill>
                <a:uFillTx/>
                <a:latin typeface="Arial"/>
              </a:rPr>
              <a:t>Weaknesses</a:t>
            </a:r>
            <a:r>
              <a:rPr b="1" lang="en-US" sz="3600" spc="-1" strike="noStrike">
                <a:solidFill>
                  <a:srgbClr val="e5405d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ot inclu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i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 embedd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project.  Se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4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905120" y="1676520"/>
            <a:ext cx="66294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Net Present Value Profile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1600200"/>
            <a:ext cx="66294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00200" y="2362320"/>
            <a:ext cx="0" cy="32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502920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09680" y="6081840"/>
            <a:ext cx="27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unt Rate (%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08320" y="5700600"/>
            <a:ext cx="546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0         3          6          9          12       15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629400" y="4647960"/>
            <a:ext cx="0" cy="990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572000" y="3962520"/>
            <a:ext cx="0" cy="16761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505320" y="3123720"/>
            <a:ext cx="0" cy="251460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514600" y="2361960"/>
            <a:ext cx="0" cy="3276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562720" y="4647960"/>
            <a:ext cx="0" cy="990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4191120"/>
            <a:ext cx="320040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3352680"/>
            <a:ext cx="213372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00200" y="5638680"/>
            <a:ext cx="563868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30360" y="25970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743200"/>
            <a:ext cx="4192560" cy="2516040"/>
          </a:xfrm>
          <a:custGeom>
            <a:avLst/>
            <a:gdLst/>
            <a:ahLst/>
            <a:rect l="l" t="t" r="r" b="b"/>
            <a:pathLst>
              <a:path w="2641" h="1585">
                <a:moveTo>
                  <a:pt x="0" y="0"/>
                </a:moveTo>
                <a:lnTo>
                  <a:pt x="1152" y="768"/>
                </a:lnTo>
                <a:lnTo>
                  <a:pt x="2352" y="1440"/>
                </a:lnTo>
                <a:lnTo>
                  <a:pt x="2640" y="1584"/>
                </a:lnTo>
              </a:path>
            </a:pathLst>
          </a:custGeom>
          <a:noFill/>
          <a:ln cap="rnd" w="2556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40240" y="495936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7440" y="518796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67800" y="4024440"/>
            <a:ext cx="70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IRR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30640" y="4329000"/>
            <a:ext cx="171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NPV@13%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18240" y="204300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um of CF’s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752120" y="2286000"/>
            <a:ext cx="304920" cy="30492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19720"/>
            <a:ext cx="0" cy="457200"/>
          </a:xfrm>
          <a:prstGeom prst="line">
            <a:avLst/>
          </a:prstGeom>
          <a:ln w="12600">
            <a:solidFill>
              <a:srgbClr val="cf76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019920" y="4724280"/>
            <a:ext cx="304560" cy="381240"/>
          </a:xfrm>
          <a:prstGeom prst="line">
            <a:avLst/>
          </a:prstGeom>
          <a:ln w="12600">
            <a:solidFill>
              <a:srgbClr val="42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23560" y="2043000"/>
            <a:ext cx="2738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Plot NPV for each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discount rate.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080000">
            <a:off x="3430800" y="3332160"/>
            <a:ext cx="536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405d"/>
                </a:solidFill>
                <a:latin typeface="Arial"/>
              </a:rPr>
              <a:t>Three of these points are easy now!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-628200" y="3647160"/>
            <a:ext cx="277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Net Present Value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5480" y="189072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$000s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53000" y="22716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53000" y="31100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28600" y="40244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28600" y="48625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52280" y="539604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95680" y="2057400"/>
            <a:ext cx="4038840" cy="426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Creating NPV Profiles Using the Calculator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343400" y="22093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As long as you do not “clear” the cash flows from the registry, simply start at 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Step 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nter a different discount rate.  Each resulting NPV will provide a “point” for your </a:t>
            </a:r>
            <a:r>
              <a:rPr b="1" i="1" lang="en-US" sz="2800" spc="-1" strike="noStrike" u="sng">
                <a:solidFill>
                  <a:srgbClr val="e5405d"/>
                </a:solidFill>
                <a:uFillTx/>
                <a:latin typeface="Arial"/>
              </a:rPr>
              <a:t>NPV Prof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28800" y="1600200"/>
            <a:ext cx="58672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1676520"/>
            <a:ext cx="58672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030320" y="1905120"/>
            <a:ext cx="2741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762120" y="3581280"/>
            <a:ext cx="8229600" cy="1447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5638680"/>
            <a:ext cx="426744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1676520"/>
            <a:ext cx="57150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rofitability Index (PI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1600200"/>
            <a:ext cx="57150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00160" y="1980720"/>
            <a:ext cx="856296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I is the ratio of the present value of a project’s future net cash flows to the project’s initial cash outflow.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25680" y="3787920"/>
            <a:ext cx="4808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CF</a:t>
            </a:r>
            <a:r>
              <a:rPr b="1" lang="en-US" sz="3200" spc="-1" strike="noStrike" baseline="-25000">
                <a:solidFill>
                  <a:srgbClr val="114ff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CF</a:t>
            </a:r>
            <a:r>
              <a:rPr b="1" lang="en-US" sz="3200" spc="-1" strike="noStrike" baseline="-25000">
                <a:solidFill>
                  <a:srgbClr val="114ff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CF</a:t>
            </a:r>
            <a:r>
              <a:rPr b="1" lang="en-US" sz="3200" spc="-1" strike="noStrike" baseline="-25000">
                <a:solidFill>
                  <a:srgbClr val="114ff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57080" y="4297320"/>
            <a:ext cx="56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       (1+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114ffb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4343400"/>
            <a:ext cx="110520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4343400"/>
            <a:ext cx="106704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67200" y="4100400"/>
            <a:ext cx="113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04"/>
                </a:solidFill>
                <a:latin typeface="Arial"/>
              </a:rPr>
              <a:t>+ . . . +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38280" y="410040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04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0280" y="3995640"/>
            <a:ext cx="90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Arial"/>
              </a:rPr>
              <a:t>ICO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4343400"/>
            <a:ext cx="114300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04760" y="3995640"/>
            <a:ext cx="915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PI 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81080" y="3809880"/>
            <a:ext cx="0" cy="106704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391520" y="3809880"/>
            <a:ext cx="0" cy="106704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81080" y="3809880"/>
            <a:ext cx="304920" cy="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1080" y="4876920"/>
            <a:ext cx="304920" cy="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6600" y="3809880"/>
            <a:ext cx="304920" cy="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086600" y="4876920"/>
            <a:ext cx="304920" cy="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27200" y="5672160"/>
            <a:ext cx="4113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PI 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= 1 + [ 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NPV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/ </a:t>
            </a:r>
            <a:r>
              <a:rPr b="1" lang="en-US" sz="3200" spc="-1" strike="noStrike">
                <a:solidFill>
                  <a:srgbClr val="ffa27c"/>
                </a:solidFill>
                <a:latin typeface="Arial"/>
              </a:rPr>
              <a:t>ICO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69640" y="5091120"/>
            <a:ext cx="152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&lt;&lt; OR &gt;&gt;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543800" y="42670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09040" y="4127400"/>
            <a:ext cx="50760" cy="507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709040" y="4356000"/>
            <a:ext cx="50760" cy="507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5715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404"/>
                </a:solidFill>
                <a:latin typeface="Arial"/>
              </a:rPr>
              <a:t>Method #2:</a:t>
            </a:r>
            <a:endParaRPr b="0" lang="en-US" sz="1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3657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404"/>
                </a:solidFill>
                <a:latin typeface="Arial"/>
              </a:rPr>
              <a:t>Method #1:</a:t>
            </a:r>
            <a:endParaRPr b="0" lang="en-US" sz="18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447920" y="3429000"/>
            <a:ext cx="670536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1080" y="1676520"/>
            <a:ext cx="632484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I Acceptance Criterio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No!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P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 than 1.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Th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ans that the project is not profitable.  [</a:t>
            </a:r>
            <a:r>
              <a:rPr b="1" i="1" lang="en-US" sz="3200" spc="-1" strike="noStrike">
                <a:solidFill>
                  <a:srgbClr val="a75151"/>
                </a:solidFill>
                <a:latin typeface="Arial"/>
              </a:rPr>
              <a:t>Re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a75151"/>
                </a:solidFill>
                <a:latin typeface="Arial"/>
              </a:rPr>
              <a:t>PI</a:t>
            </a:r>
            <a:r>
              <a:rPr b="1" lang="en-US" sz="3200" spc="-1" strike="noStrike">
                <a:solidFill>
                  <a:srgbClr val="014a0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i="1" lang="en-US" sz="3200" spc="-1" strike="noStrike">
                <a:solidFill>
                  <a:srgbClr val="a75151"/>
                </a:solidFill>
                <a:latin typeface="Arial"/>
              </a:rPr>
              <a:t>1.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1600200"/>
            <a:ext cx="63244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75151"/>
                </a:solidFill>
                <a:latin typeface="Arial"/>
              </a:rPr>
              <a:t>P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38,572 / $40,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.9643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(Method #1, 13-3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Should this project be accep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905120" y="1676520"/>
            <a:ext cx="4495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7391160" cy="1676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I Strengths 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br>
              <a:rPr sz="4400"/>
            </a:b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and Weakness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4572000" cy="3809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b200"/>
                </a:solidFill>
                <a:latin typeface="Arial"/>
              </a:rPr>
              <a:t>        </a:t>
            </a:r>
            <a:r>
              <a:rPr b="1" lang="en-US" sz="3600" spc="-1" strike="noStrike" u="sng">
                <a:solidFill>
                  <a:srgbClr val="42b200"/>
                </a:solidFill>
                <a:uFillTx/>
                <a:latin typeface="Arial"/>
              </a:rPr>
              <a:t>Strengths</a:t>
            </a:r>
            <a:r>
              <a:rPr b="1" lang="en-US" sz="3600" spc="-1" strike="noStrike">
                <a:solidFill>
                  <a:srgbClr val="42b2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as NP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sca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28800" y="1600200"/>
            <a:ext cx="44956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962160" y="2286000"/>
            <a:ext cx="5105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405d"/>
                </a:solidFill>
                <a:uFillTx/>
                <a:latin typeface="Arial"/>
              </a:rPr>
              <a:t>Weaknesses</a:t>
            </a:r>
            <a:r>
              <a:rPr b="1" lang="en-US" sz="3600" spc="-1" strike="noStrike">
                <a:solidFill>
                  <a:srgbClr val="e5405d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as NP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s on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e profit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Rank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838080" y="1981080"/>
            <a:ext cx="746784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1676520"/>
            <a:ext cx="54864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Evaluation Summary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69960" y="2852640"/>
          <a:ext cx="7851600" cy="36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852640"/>
                    <a:ext cx="78516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1828800" y="1600200"/>
            <a:ext cx="54864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3429000"/>
            <a:ext cx="7924680" cy="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62320" y="2971800"/>
            <a:ext cx="0" cy="312408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2895480"/>
            <a:ext cx="0" cy="312444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2971800"/>
            <a:ext cx="0" cy="312408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114800"/>
            <a:ext cx="792468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4876920"/>
            <a:ext cx="792468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5562720"/>
            <a:ext cx="792468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94600" y="2028960"/>
            <a:ext cx="73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sket Wond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ependent Project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4197240"/>
            <a:ext cx="8217000" cy="2121120"/>
          </a:xfrm>
          <a:prstGeom prst="octagon">
            <a:avLst>
              <a:gd name="adj" fmla="val 29282"/>
            </a:avLst>
          </a:prstGeom>
          <a:noFill/>
          <a:ln w="1260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905120" y="1676520"/>
            <a:ext cx="36576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Other Project Relationship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040" y="396252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2b200"/>
                </a:solidFill>
                <a:uFillTx/>
                <a:latin typeface="Arial"/>
              </a:rPr>
              <a:t>Mutually Exclusive</a:t>
            </a:r>
            <a:r>
              <a:rPr b="1" i="1" lang="en-US" sz="3200" spc="-1" strike="noStrike">
                <a:solidFill>
                  <a:srgbClr val="42b2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A project whose acceptance precludes the acceptance of one or more alternative project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1600200"/>
            <a:ext cx="36576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1905120"/>
            <a:ext cx="7010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5405d"/>
                </a:solidFill>
                <a:uFillTx/>
                <a:latin typeface="Arial"/>
              </a:rPr>
              <a:t>Depend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- A project whose acceptance depends on the acceptance of one or more other projects.</a:t>
            </a:r>
            <a:endParaRPr b="0" lang="en-US" sz="32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981080" y="1676520"/>
            <a:ext cx="66294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315200" cy="1676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otential Problems </a:t>
            </a: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	</a:t>
            </a:r>
            <a:br>
              <a:rPr sz="4400"/>
            </a:b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Under Mutual Exclusivity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8381880" cy="2743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lvl="3" marL="160020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405d"/>
                </a:solidFill>
                <a:latin typeface="Arial"/>
              </a:rPr>
              <a:t>A.  Scale of Invest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b200"/>
                </a:solidFill>
                <a:latin typeface="Arial"/>
              </a:rPr>
              <a:t>B.  Cash-flow Patter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Arial"/>
              </a:rPr>
              <a:t>C.  Project Lif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5120" y="1600200"/>
            <a:ext cx="66294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28600" y="19051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nking of project proposal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e contradictory resul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5120" y="1676520"/>
            <a:ext cx="533376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391160" cy="1752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roject Evaluation:  Alternative Method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305920" cy="3733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back Period (PB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Rate of Return (IRR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 Present Value (NPV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tability Index (P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00200"/>
            <a:ext cx="53341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523880" y="1905120"/>
            <a:ext cx="6324840" cy="129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81080" y="1676520"/>
            <a:ext cx="54864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31520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A.  Scale Differenc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1600200"/>
            <a:ext cx="54864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e a small (S) and a large (L) projec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18400" y="3521160"/>
            <a:ext cx="3372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CASH FLOWS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19720" y="3962520"/>
            <a:ext cx="39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56520" y="3978360"/>
            <a:ext cx="383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S      Project L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4505400"/>
            <a:ext cx="759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3920" y="3978360"/>
            <a:ext cx="2604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OF YEAR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4040" y="4587840"/>
            <a:ext cx="765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                             -$100         -$100,00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03320" y="5197320"/>
            <a:ext cx="731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                           0                       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5960" y="5807160"/>
            <a:ext cx="7511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                       $400          $156,25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3200400"/>
            <a:ext cx="8001000" cy="838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5486400"/>
            <a:ext cx="1828800" cy="558720"/>
          </a:xfrm>
          <a:prstGeom prst="octagon">
            <a:avLst>
              <a:gd name="adj" fmla="val 29282"/>
            </a:avLst>
          </a:prstGeom>
          <a:solidFill>
            <a:srgbClr val="ffff00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1676520"/>
            <a:ext cx="464832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31520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Scale Differenc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05120" y="1600200"/>
            <a:ext cx="464796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71680" y="1933560"/>
            <a:ext cx="8076960" cy="27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e the PBP, IRR, NPV@10%, and PI@10%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405d"/>
                </a:solidFill>
                <a:latin typeface="Arial"/>
              </a:rPr>
              <a:t>Which project is preferred?  Wh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R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P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28400" y="4800600"/>
            <a:ext cx="8381880" cy="1295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       </a:t>
            </a: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       100%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$     231</a:t>
            </a: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      3.3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                 25%</a:t>
            </a: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      $29,132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2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304920" y="1828800"/>
            <a:ext cx="8610480" cy="1143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1676520"/>
            <a:ext cx="57150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31520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B.  Cash Flow Patter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05120" y="1600200"/>
            <a:ext cx="57150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44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t us compare 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ecreas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ash-flow (D) project and an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ncreas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ash-flow (I) projec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276720"/>
            <a:ext cx="7696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18400" y="3292560"/>
            <a:ext cx="3372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CASH FLOWS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95680" y="37339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08800" y="3673440"/>
            <a:ext cx="374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0069"/>
                </a:solidFill>
                <a:latin typeface="Arial"/>
              </a:rPr>
              <a:t>Project 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Project I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4176720"/>
            <a:ext cx="778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73920" y="3673440"/>
            <a:ext cx="2604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OF YEAR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3320" y="4206960"/>
            <a:ext cx="765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                              -$1,200         -$1,20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0080" y="4664160"/>
            <a:ext cx="761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                        1,000               10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9360" y="5197320"/>
            <a:ext cx="761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                            500               60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0080" y="5730840"/>
            <a:ext cx="761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                            100            1,08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295280" y="3200400"/>
            <a:ext cx="6553440" cy="838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1294920" y="4952520"/>
            <a:ext cx="6782040" cy="130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f76f4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23%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$198        1.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17%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$198        1.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981080" y="1676520"/>
            <a:ext cx="48006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752480" y="533520"/>
            <a:ext cx="6477120" cy="12189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Cash Flow Patter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1600200"/>
            <a:ext cx="48006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71680" y="1933560"/>
            <a:ext cx="807696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e the IRR, NPV@10%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PI@10%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405d"/>
                </a:solidFill>
                <a:latin typeface="Arial"/>
              </a:rPr>
              <a:t>Which project is preferred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29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P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60520" y="4965840"/>
            <a:ext cx="6451560" cy="507960"/>
          </a:xfrm>
          <a:prstGeom prst="octagon">
            <a:avLst>
              <a:gd name="adj" fmla="val 29282"/>
            </a:avLst>
          </a:prstGeom>
          <a:noFill/>
          <a:ln w="25560">
            <a:solidFill>
              <a:srgbClr val="cf7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60520" y="5651640"/>
            <a:ext cx="6451560" cy="507960"/>
          </a:xfrm>
          <a:prstGeom prst="octagon">
            <a:avLst>
              <a:gd name="adj" fmla="val 29282"/>
            </a:avLst>
          </a:prstGeom>
          <a:noFill/>
          <a:ln w="2556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257800" y="4952880"/>
            <a:ext cx="747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noFill/>
                <a:latin typeface="Arial Black"/>
              </a:rPr>
              <a:t>?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905120" y="1676520"/>
            <a:ext cx="57150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Examine NPV Profil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28800" y="1600200"/>
            <a:ext cx="57150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2362320"/>
            <a:ext cx="0" cy="32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502920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61960" y="6081840"/>
            <a:ext cx="27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Discount Rate (%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10840" y="5700600"/>
            <a:ext cx="55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0         5         10         15        20        25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867240" y="3875400"/>
            <a:ext cx="418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-200    0     200     400      60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6629400" y="4647960"/>
            <a:ext cx="0" cy="990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572000" y="3962520"/>
            <a:ext cx="0" cy="16761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505320" y="3123720"/>
            <a:ext cx="0" cy="251460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514600" y="2361960"/>
            <a:ext cx="0" cy="3276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562720" y="4647960"/>
            <a:ext cx="0" cy="990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00200" y="4191120"/>
            <a:ext cx="320040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00200" y="3352680"/>
            <a:ext cx="213372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00200" y="5638680"/>
            <a:ext cx="563868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67800" y="4024440"/>
            <a:ext cx="70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IRR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490920"/>
            <a:ext cx="171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5151"/>
                </a:solidFill>
                <a:latin typeface="Arial"/>
              </a:rPr>
              <a:t>NPV@10%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5029200" y="4419720"/>
            <a:ext cx="380880" cy="457200"/>
          </a:xfrm>
          <a:prstGeom prst="line">
            <a:avLst/>
          </a:prstGeom>
          <a:ln w="12600">
            <a:solidFill>
              <a:srgbClr val="42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657240" y="3886200"/>
            <a:ext cx="228600" cy="304920"/>
          </a:xfrm>
          <a:prstGeom prst="line">
            <a:avLst/>
          </a:prstGeom>
          <a:ln w="12600">
            <a:solidFill>
              <a:srgbClr val="a751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623560" y="2043000"/>
            <a:ext cx="2738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Plot NPV for each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project at various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discount rates.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-857520" y="3724560"/>
            <a:ext cx="323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Net Present Value ($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00200" y="3352680"/>
            <a:ext cx="5335560" cy="1830600"/>
          </a:xfrm>
          <a:custGeom>
            <a:avLst/>
            <a:gdLst/>
            <a:ahLst/>
            <a:rect l="l" t="t" r="r" b="b"/>
            <a:pathLst>
              <a:path w="3361" h="1153">
                <a:moveTo>
                  <a:pt x="0" y="0"/>
                </a:moveTo>
                <a:lnTo>
                  <a:pt x="1200" y="576"/>
                </a:lnTo>
                <a:lnTo>
                  <a:pt x="2976" y="1056"/>
                </a:lnTo>
                <a:lnTo>
                  <a:pt x="3360" y="1152"/>
                </a:lnTo>
                <a:lnTo>
                  <a:pt x="3360" y="1152"/>
                </a:lnTo>
                <a:lnTo>
                  <a:pt x="3360" y="1152"/>
                </a:lnTo>
              </a:path>
            </a:pathLst>
          </a:custGeom>
          <a:noFill/>
          <a:ln cap="rnd" w="25560">
            <a:solidFill>
              <a:srgbClr val="cf76f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00200" y="2666880"/>
            <a:ext cx="3963960" cy="2592360"/>
          </a:xfrm>
          <a:custGeom>
            <a:avLst/>
            <a:gdLst/>
            <a:ahLst/>
            <a:rect l="l" t="t" r="r" b="b"/>
            <a:pathLst>
              <a:path w="2497" h="1633">
                <a:moveTo>
                  <a:pt x="0" y="0"/>
                </a:moveTo>
                <a:lnTo>
                  <a:pt x="1200" y="1008"/>
                </a:lnTo>
                <a:lnTo>
                  <a:pt x="2064" y="1488"/>
                </a:lnTo>
                <a:lnTo>
                  <a:pt x="2496" y="1632"/>
                </a:lnTo>
              </a:path>
            </a:pathLst>
          </a:custGeom>
          <a:noFill/>
          <a:ln cap="rnd" w="25560">
            <a:solidFill>
              <a:srgbClr val="e540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0360" y="25970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0360" y="32828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5480" y="41972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07080" y="495936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254640" y="495936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15000" y="4495680"/>
            <a:ext cx="457200" cy="381240"/>
          </a:xfrm>
          <a:prstGeom prst="line">
            <a:avLst/>
          </a:prstGeom>
          <a:ln w="12600">
            <a:solidFill>
              <a:srgbClr val="42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08600" y="2895480"/>
            <a:ext cx="138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405d"/>
                </a:solidFill>
                <a:latin typeface="Arial"/>
              </a:rPr>
              <a:t>Project I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72428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Project D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505320" y="4267080"/>
            <a:ext cx="335268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0"/>
                </a:moveTo>
                <a:lnTo>
                  <a:pt x="1776" y="480"/>
                </a:lnTo>
                <a:lnTo>
                  <a:pt x="2112" y="576"/>
                </a:lnTo>
                <a:lnTo>
                  <a:pt x="1248" y="624"/>
                </a:lnTo>
                <a:lnTo>
                  <a:pt x="864" y="48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4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2666880"/>
            <a:ext cx="1905120" cy="1600200"/>
          </a:xfrm>
          <a:custGeom>
            <a:avLst/>
            <a:gdLst/>
            <a:ahLst/>
            <a:rect l="l" t="t" r="r" b="b"/>
            <a:pathLst>
              <a:path w="1200" h="1008">
                <a:moveTo>
                  <a:pt x="0" y="0"/>
                </a:moveTo>
                <a:lnTo>
                  <a:pt x="0" y="432"/>
                </a:lnTo>
                <a:lnTo>
                  <a:pt x="1200" y="100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4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1676520"/>
            <a:ext cx="716256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114ffb"/>
                </a:solidFill>
                <a:latin typeface="Arial"/>
              </a:rPr>
              <a:t>Fisher’s Rate of Intersection</a:t>
            </a:r>
            <a:endParaRPr b="0" i="1" lang="en-US" sz="4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828800" y="1600200"/>
            <a:ext cx="71629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00200" y="2362320"/>
            <a:ext cx="0" cy="32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00200" y="502920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61960" y="6081840"/>
            <a:ext cx="268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Discount Rate ($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10840" y="5700600"/>
            <a:ext cx="55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0         5         </a:t>
            </a:r>
            <a:r>
              <a:rPr b="1" lang="en-US" sz="2400" spc="-1" strike="noStrike" u="sng">
                <a:solidFill>
                  <a:srgbClr val="a75151"/>
                </a:solidFill>
                <a:uFillTx/>
                <a:latin typeface="Arial"/>
              </a:rPr>
              <a:t>10</a:t>
            </a: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         15        20        25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-714960" y="3875400"/>
            <a:ext cx="418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-200    0     200     400      60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629400" y="4647960"/>
            <a:ext cx="0" cy="990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3962520"/>
            <a:ext cx="0" cy="16761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505320" y="3123720"/>
            <a:ext cx="0" cy="251460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514600" y="2361960"/>
            <a:ext cx="0" cy="3276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562720" y="4647960"/>
            <a:ext cx="0" cy="990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4191120"/>
            <a:ext cx="320040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352680"/>
            <a:ext cx="213372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0200" y="5638680"/>
            <a:ext cx="563868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3733560" y="3200400"/>
            <a:ext cx="2361960" cy="2514600"/>
          </a:xfrm>
          <a:prstGeom prst="line">
            <a:avLst/>
          </a:prstGeom>
          <a:ln w="12600">
            <a:solidFill>
              <a:srgbClr val="a751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-628920" y="3646800"/>
            <a:ext cx="323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Net Present Value ($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3352680"/>
            <a:ext cx="5335560" cy="1830600"/>
          </a:xfrm>
          <a:custGeom>
            <a:avLst/>
            <a:gdLst/>
            <a:ahLst/>
            <a:rect l="l" t="t" r="r" b="b"/>
            <a:pathLst>
              <a:path w="3361" h="1153">
                <a:moveTo>
                  <a:pt x="0" y="0"/>
                </a:moveTo>
                <a:lnTo>
                  <a:pt x="1200" y="576"/>
                </a:lnTo>
                <a:lnTo>
                  <a:pt x="2976" y="1056"/>
                </a:lnTo>
                <a:lnTo>
                  <a:pt x="3360" y="1152"/>
                </a:lnTo>
                <a:lnTo>
                  <a:pt x="3360" y="1152"/>
                </a:lnTo>
                <a:lnTo>
                  <a:pt x="3360" y="1152"/>
                </a:lnTo>
              </a:path>
            </a:pathLst>
          </a:custGeom>
          <a:noFill/>
          <a:ln cap="rnd" w="25560">
            <a:solidFill>
              <a:srgbClr val="cf76f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2666880"/>
            <a:ext cx="3963960" cy="2592360"/>
          </a:xfrm>
          <a:custGeom>
            <a:avLst/>
            <a:gdLst/>
            <a:ahLst/>
            <a:rect l="l" t="t" r="r" b="b"/>
            <a:pathLst>
              <a:path w="2497" h="1633">
                <a:moveTo>
                  <a:pt x="0" y="0"/>
                </a:moveTo>
                <a:lnTo>
                  <a:pt x="1200" y="1008"/>
                </a:lnTo>
                <a:lnTo>
                  <a:pt x="2064" y="1488"/>
                </a:lnTo>
                <a:lnTo>
                  <a:pt x="2496" y="1632"/>
                </a:lnTo>
              </a:path>
            </a:pathLst>
          </a:custGeom>
          <a:noFill/>
          <a:ln cap="rnd" w="25560">
            <a:solidFill>
              <a:srgbClr val="e540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30360" y="25970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30360" y="32828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435480" y="41972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7080" y="495936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254640" y="495936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11720" y="2590920"/>
            <a:ext cx="2955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405d"/>
                </a:solidFill>
                <a:latin typeface="Arial"/>
              </a:rPr>
              <a:t>At k&lt;10%, I is best!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8480" y="2652840"/>
            <a:ext cx="2468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5151"/>
                </a:solidFill>
                <a:latin typeface="Arial"/>
              </a:rPr>
              <a:t>Fisher’s </a:t>
            </a:r>
            <a:r>
              <a:rPr b="1" lang="en-US" sz="2400" spc="-1" strike="noStrike" u="sng">
                <a:solidFill>
                  <a:srgbClr val="a75151"/>
                </a:solidFill>
                <a:uFillTx/>
                <a:latin typeface="Arial"/>
              </a:rPr>
              <a:t>Rate</a:t>
            </a:r>
            <a:r>
              <a:rPr b="1" lang="en-US" sz="2400" spc="-1" strike="noStrike">
                <a:solidFill>
                  <a:srgbClr val="a75151"/>
                </a:solidFill>
                <a:latin typeface="Arial"/>
              </a:rPr>
              <a:t> of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5151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546880" y="4100400"/>
            <a:ext cx="308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At k&gt;10%, D is best!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371600" y="1828800"/>
            <a:ext cx="7086600" cy="1143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81080" y="1676520"/>
            <a:ext cx="70866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31520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C.  Project Life Differenc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05120" y="1600200"/>
            <a:ext cx="70866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t us compare 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life (X) projec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life (Y) projec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76720"/>
            <a:ext cx="7696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18400" y="3292560"/>
            <a:ext cx="3372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CASH FLOWS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37339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08800" y="3673440"/>
            <a:ext cx="385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X      Project Y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4176720"/>
            <a:ext cx="778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73920" y="3673440"/>
            <a:ext cx="2604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OF YEAR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33320" y="4206960"/>
            <a:ext cx="765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                              -$1,000         -$1,00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7920" y="4664160"/>
            <a:ext cx="767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                               0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6120" y="5197320"/>
            <a:ext cx="761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                                0                   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8280" y="5730840"/>
            <a:ext cx="761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                         3,375                   0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5800" y="3124080"/>
            <a:ext cx="78487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428400" y="4800600"/>
            <a:ext cx="8381880" cy="1457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                      50%       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$1,536        2.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                     100%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  818        1.8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81080" y="1676520"/>
            <a:ext cx="61722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1752480" y="285840"/>
            <a:ext cx="7315200" cy="1466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roject Life Difference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905120" y="1600200"/>
            <a:ext cx="61722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71680" y="1933560"/>
            <a:ext cx="8076960" cy="27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e the PBP, IRR, NPV@10%, and PI@10%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405d"/>
                </a:solidFill>
                <a:latin typeface="Arial"/>
              </a:rPr>
              <a:t>Which project is preferred?  Why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625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R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P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724280" y="4724280"/>
            <a:ext cx="747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noFill/>
                <a:latin typeface="Arial Black"/>
              </a:rPr>
              <a:t>?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80880" y="5943600"/>
            <a:ext cx="853452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1676520"/>
            <a:ext cx="41148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Another Way to Look at Things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3160" indent="0"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42b200"/>
                </a:solidFill>
                <a:latin typeface="Arial"/>
              </a:rPr>
              <a:t>1.</a:t>
            </a:r>
            <a:r>
              <a:rPr b="1" lang="en-US" sz="3100" spc="-1" strike="noStrike">
                <a:solidFill>
                  <a:srgbClr val="42b2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42b2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42b200"/>
                </a:solidFill>
                <a:latin typeface="Arial"/>
              </a:rPr>
              <a:t>Adjust cash flows to a common terminal </a:t>
            </a:r>
            <a:r>
              <a:rPr b="1" lang="en-US" sz="3100" spc="-1" strike="noStrike">
                <a:solidFill>
                  <a:srgbClr val="42b2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42b200"/>
                </a:solidFill>
                <a:latin typeface="Arial"/>
              </a:rPr>
              <a:t>year if project “Y” will </a:t>
            </a:r>
            <a:r>
              <a:rPr b="1" i="1" lang="en-US" sz="3100" spc="-1" strike="noStrike" u="sng">
                <a:solidFill>
                  <a:srgbClr val="42b200"/>
                </a:solidFill>
                <a:uFillTx/>
                <a:latin typeface="Arial"/>
              </a:rPr>
              <a:t>NOT</a:t>
            </a:r>
            <a:r>
              <a:rPr b="1" lang="en-US" sz="3100" spc="-1" strike="noStrike">
                <a:solidFill>
                  <a:srgbClr val="42b200"/>
                </a:solidFill>
                <a:latin typeface="Arial"/>
              </a:rPr>
              <a:t> be replaced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und Project Y, Year 1 @10% for 2 yea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ear            0               1               2              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F         -$1,000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        $0              $0        $2,4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IRR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34.26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V = $81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wer I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djusted cash-flow stream.  X is still Be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828800" y="1600200"/>
            <a:ext cx="41148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371600" y="6095880"/>
            <a:ext cx="65530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05120" y="1676520"/>
            <a:ext cx="57150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114ffb"/>
                </a:solidFill>
                <a:latin typeface="Arial"/>
              </a:rPr>
              <a:t>Replacing Projects </a:t>
            </a:r>
            <a:r>
              <a:rPr b="1" i="1" lang="en-US" sz="43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i="1" lang="en-US" sz="43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i="1" lang="en-US" sz="4300" spc="-1" strike="noStrike">
                <a:solidFill>
                  <a:srgbClr val="114ffb"/>
                </a:solidFill>
                <a:latin typeface="Arial"/>
              </a:rPr>
              <a:t> with Identical Projects</a:t>
            </a:r>
            <a:endParaRPr b="0" i="1" lang="en-US" sz="43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1440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42b2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42b200"/>
                </a:solidFill>
                <a:latin typeface="Arial"/>
              </a:rPr>
              <a:t>Use </a:t>
            </a:r>
            <a:r>
              <a:rPr b="1" i="1" lang="en-US" sz="2600" spc="-1" strike="noStrike">
                <a:solidFill>
                  <a:srgbClr val="42b200"/>
                </a:solidFill>
                <a:latin typeface="Arial"/>
              </a:rPr>
              <a:t>Replacement Chain Approach </a:t>
            </a:r>
            <a:r>
              <a:rPr b="1" lang="en-US" sz="2600" spc="-1" strike="noStrike">
                <a:solidFill>
                  <a:srgbClr val="42b200"/>
                </a:solidFill>
                <a:latin typeface="Arial"/>
              </a:rPr>
              <a:t>(Appendix B) when project “Y” will be replaced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600200"/>
            <a:ext cx="57150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36576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2900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1500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77240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11240" y="2881440"/>
            <a:ext cx="691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                     1                         2                      3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11920" y="3719520"/>
            <a:ext cx="342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-$1,000               $2,00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710800" y="4110120"/>
            <a:ext cx="342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1,000               $2,00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20480" y="4481640"/>
            <a:ext cx="342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-1,000               $2,00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52880" y="4876920"/>
            <a:ext cx="121932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162920" y="4876920"/>
            <a:ext cx="121896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743200" y="4876920"/>
            <a:ext cx="121932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3520" y="4876920"/>
            <a:ext cx="121896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6080" y="5014800"/>
            <a:ext cx="784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405d"/>
                </a:solidFill>
                <a:latin typeface="Arial"/>
              </a:rPr>
              <a:t>-$1,000               $1,000               $1,000               $2,00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6360" y="5564160"/>
            <a:ext cx="86853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IRR = 100%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NPV*</a:t>
            </a: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$2,238.17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gher NPV, but the same I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Y is Best</a:t>
            </a: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05120" y="1676520"/>
            <a:ext cx="59436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391160" cy="1371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roposed Project Data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534520" cy="4419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Julie Miller is evaluating a new project for her firm,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Basket Wonders (BW)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 She has determined that the after-tax cash flows for the project will be </a:t>
            </a:r>
            <a:r>
              <a:rPr b="1" lang="en-US" sz="3400" spc="-1" strike="noStrike">
                <a:solidFill>
                  <a:srgbClr val="e5405d"/>
                </a:solidFill>
                <a:latin typeface="Arial"/>
              </a:rPr>
              <a:t>$10,000; $12,000; $15,000; $10,000; and $7,000,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spectively, for each of the </a:t>
            </a:r>
            <a:r>
              <a:rPr b="1" lang="en-US" sz="3400" spc="-1" strike="noStrike">
                <a:solidFill>
                  <a:srgbClr val="114ffb"/>
                </a:solidFill>
                <a:latin typeface="Arial"/>
              </a:rPr>
              <a:t>Years 1 through 5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 The initial cash outlay will be </a:t>
            </a:r>
            <a:r>
              <a:rPr b="1" lang="en-US" sz="3400" spc="-1" strike="noStrike">
                <a:solidFill>
                  <a:srgbClr val="014a01"/>
                </a:solidFill>
                <a:latin typeface="Arial"/>
              </a:rPr>
              <a:t>$40,000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9436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905120" y="1676520"/>
            <a:ext cx="4495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Capital Rationing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828800" y="1600200"/>
            <a:ext cx="44956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205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114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pital Ration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curs when a constraint (or budget ceiling) is placed on the total size of capital expenditures during a particular perio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14ffb"/>
                </a:solidFill>
                <a:uFillTx/>
                <a:latin typeface="Arial"/>
              </a:rPr>
              <a:t>Example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ie Miller must determine what investment opportunities to undertake for </a:t>
            </a:r>
            <a:r>
              <a:rPr b="1" i="1" lang="en-US" sz="2800" spc="-1" strike="noStrike">
                <a:solidFill>
                  <a:srgbClr val="e5405d"/>
                </a:solidFill>
                <a:latin typeface="Arial"/>
              </a:rPr>
              <a:t>Basket Wonders (BW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She is limited to a </a:t>
            </a: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maximum expenditure of $32,500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this capital budgeting perio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905120" y="1676520"/>
            <a:ext cx="67816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Available Projects for BW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28800" y="1600200"/>
            <a:ext cx="67816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4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ject    ICO        IRR           NPV      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$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         18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$        50    1.1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5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6,500    2.3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5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3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5,500    2.1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7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5,000    1.6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2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500    1.0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,0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2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,000    2.4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1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7,500    1.4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6,000    1.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62120" y="5257800"/>
            <a:ext cx="79246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1676520"/>
            <a:ext cx="68580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Choosing by IRRs for BW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1600200"/>
            <a:ext cx="68580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11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ject    ICO        IRR           NPV      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     $  5,000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114ffb"/>
                </a:solidFill>
                <a:latin typeface="Arial"/>
              </a:rPr>
              <a:t>37%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900" spc="-1" strike="noStrike">
                <a:solidFill>
                  <a:srgbClr val="e5405d"/>
                </a:solidFill>
                <a:latin typeface="Arial"/>
              </a:rPr>
              <a:t>$  5,500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2.10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5,000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114ffb"/>
                </a:solidFill>
                <a:latin typeface="Arial"/>
              </a:rPr>
              <a:t>28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900" spc="-1" strike="noStrike">
                <a:solidFill>
                  <a:srgbClr val="e5405d"/>
                </a:solidFill>
                <a:latin typeface="Arial"/>
              </a:rPr>
              <a:t> 21,000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2.40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2,500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114ffb"/>
                </a:solidFill>
                <a:latin typeface="Arial"/>
              </a:rPr>
              <a:t>26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900" spc="-1" strike="noStrike">
                <a:solidFill>
                  <a:srgbClr val="e5405d"/>
                </a:solidFill>
                <a:latin typeface="Arial"/>
              </a:rPr>
              <a:t>  500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1.04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5,000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6,500    2.30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s C, F, and E have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ree </a:t>
            </a:r>
            <a:r>
              <a:rPr b="1" i="1" lang="en-US" sz="2800" spc="-1" strike="noStrike">
                <a:solidFill>
                  <a:srgbClr val="114ffb"/>
                </a:solidFill>
                <a:latin typeface="Arial"/>
              </a:rPr>
              <a:t>largest IR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ulting </a:t>
            </a:r>
            <a:r>
              <a:rPr b="1" i="1" lang="en-US" sz="2800" spc="-1" strike="noStrike">
                <a:solidFill>
                  <a:srgbClr val="e5405d"/>
                </a:solidFill>
                <a:latin typeface="Arial"/>
              </a:rPr>
              <a:t>increase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shareholder weal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27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32,500 outl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5076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838080" y="5257800"/>
            <a:ext cx="762012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905120" y="1676520"/>
            <a:ext cx="70102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Choosing by NPVs for BW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28800" y="1600200"/>
            <a:ext cx="70102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110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ject    ICO        IRR           NPV      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8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     $15,0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$21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2.4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   7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1.4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5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6,500    2.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8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s F and G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i="1" lang="en-US" sz="3200" spc="-1" strike="noStrike">
                <a:solidFill>
                  <a:srgbClr val="114ffb"/>
                </a:solidFill>
                <a:latin typeface="Arial"/>
              </a:rPr>
              <a:t>largest NPV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8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ulting </a:t>
            </a:r>
            <a:r>
              <a:rPr b="1" i="1" lang="en-US" sz="2800" spc="-1" strike="noStrike">
                <a:solidFill>
                  <a:srgbClr val="e5405d"/>
                </a:solidFill>
                <a:latin typeface="Arial"/>
              </a:rPr>
              <a:t>increase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shareholder weal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28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32,500 outl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62120" y="3505320"/>
            <a:ext cx="7696080" cy="0"/>
          </a:xfrm>
          <a:prstGeom prst="line">
            <a:avLst/>
          </a:prstGeom>
          <a:ln w="5076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533520" y="5334120"/>
            <a:ext cx="830556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1676520"/>
            <a:ext cx="64008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Choosing by PIs for BW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828800" y="1600200"/>
            <a:ext cx="64008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4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ject    ICO        IRR           NPV      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15,0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28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21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2.4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5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     6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2.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5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37   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     5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2.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7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5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1.6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17,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1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7,500    1.4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s F, B, C, and D have the four </a:t>
            </a:r>
            <a:r>
              <a:rPr b="1" i="1" lang="en-US" sz="2800" spc="-1" strike="noStrike">
                <a:solidFill>
                  <a:srgbClr val="114ffb"/>
                </a:solidFill>
                <a:latin typeface="Arial"/>
              </a:rPr>
              <a:t>largest P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ulting </a:t>
            </a:r>
            <a:r>
              <a:rPr b="1" i="1" lang="en-US" sz="2800" spc="-1" strike="noStrike">
                <a:solidFill>
                  <a:srgbClr val="e5405d"/>
                </a:solidFill>
                <a:latin typeface="Arial"/>
              </a:rPr>
              <a:t>increase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 shareholder weal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e5405d"/>
                </a:solidFill>
                <a:latin typeface="Arial"/>
              </a:rPr>
              <a:t>$38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1" lang="en-US" sz="2800" spc="-1" strike="noStrike">
                <a:solidFill>
                  <a:srgbClr val="42b200"/>
                </a:solidFill>
                <a:latin typeface="Arial"/>
              </a:rPr>
              <a:t>$32,500 outl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" y="4191120"/>
            <a:ext cx="7696080" cy="0"/>
          </a:xfrm>
          <a:prstGeom prst="line">
            <a:avLst/>
          </a:prstGeom>
          <a:ln w="5076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533520" y="4800600"/>
            <a:ext cx="8381880" cy="1600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05120" y="1676520"/>
            <a:ext cx="655308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Summary of Comparison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828800" y="1600200"/>
            <a:ext cx="65530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113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h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jects Accep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lue Ad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PI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      F, B, C, and D             $38,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F and G                   $28,5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, F, and E                $27,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P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enerates the </a:t>
            </a:r>
            <a:r>
              <a:rPr b="1" i="1" lang="en-US" sz="3200" spc="-1" strike="noStrike">
                <a:solidFill>
                  <a:srgbClr val="114ffb"/>
                </a:solidFill>
                <a:latin typeface="Arial"/>
              </a:rPr>
              <a:t>grea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114ffb"/>
                </a:solidFill>
                <a:latin typeface="Arial"/>
              </a:rPr>
              <a:t>incre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3200" spc="-1" strike="noStrike">
                <a:solidFill>
                  <a:srgbClr val="114ffb"/>
                </a:solidFill>
                <a:latin typeface="Arial"/>
              </a:rPr>
              <a:t>shareholder weal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limited capital budget exists for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ngle peri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828800" y="1676520"/>
            <a:ext cx="594360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6400800" cy="1524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14ffb"/>
                </a:solidFill>
                <a:latin typeface="Arial"/>
              </a:rPr>
              <a:t>Single-Point Estimate and Sensitivity Analysis</a:t>
            </a:r>
            <a:endParaRPr b="0" i="1" lang="en-US" sz="4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848720" cy="2666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us to change from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gle-po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(i.e., revenue, installation cost, salvage, etc.) estimates to a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e a “base-case” to compare the impact of individual variable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Change forecasted sales units to see impact on the project’s NP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752480" y="1600200"/>
            <a:ext cx="586764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04920" y="175248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 u="sng">
                <a:solidFill>
                  <a:srgbClr val="42b200"/>
                </a:solidFill>
                <a:uFillTx/>
                <a:latin typeface="Arial"/>
              </a:rPr>
              <a:t>Sensitivity Analys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A type of “what-if” uncertainty analysis in which variables or assumptions are changed from a base case in order to determine their impact on a project’s measured results (such as NPV or IRR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85800" y="5715000"/>
            <a:ext cx="792468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05120" y="1676520"/>
            <a:ext cx="601956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ost-Completion Audit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28800" y="1600200"/>
            <a:ext cx="60199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4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t-completion Aud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ormal comparison of the actual costs and benefits of a project with original estimat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886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4480" algn="ctr">
              <a:spcBef>
                <a:spcPts val="700"/>
              </a:spcBef>
              <a:spcAft>
                <a:spcPts val="700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any project weakn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spcBef>
                <a:spcPts val="700"/>
              </a:spcBef>
              <a:spcAft>
                <a:spcPts val="700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a possible set of corrective 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spcBef>
                <a:spcPts val="700"/>
              </a:spcBef>
              <a:spcAft>
                <a:spcPts val="700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appropriate feedb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Result:  </a:t>
            </a: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Making better future decision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3733920"/>
            <a:ext cx="8305920" cy="0"/>
          </a:xfrm>
          <a:prstGeom prst="line">
            <a:avLst/>
          </a:prstGeom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990720" y="3733920"/>
            <a:ext cx="7543800" cy="1143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981080" y="1676520"/>
            <a:ext cx="556272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31520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Multiple IRR Problem*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4876920"/>
            <a:ext cx="8381880" cy="1295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lvl="3"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Two!!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as many potenti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s as there are sign chang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905120" y="1600200"/>
            <a:ext cx="556236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28600" y="19047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assume the following cash flow pattern for a project for Years 0 to 4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$100  +$100  +$900  -$1,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How many </a:t>
            </a:r>
            <a:r>
              <a:rPr b="1" i="1" lang="en-US" sz="3200" spc="-1" strike="noStrike">
                <a:solidFill>
                  <a:srgbClr val="e5405d"/>
                </a:solidFill>
                <a:latin typeface="Arial"/>
              </a:rPr>
              <a:t>potential</a:t>
            </a:r>
            <a:r>
              <a:rPr b="1" lang="en-US" sz="3200" spc="-1" strike="noStrike">
                <a:solidFill>
                  <a:srgbClr val="e5405d"/>
                </a:solidFill>
                <a:latin typeface="Arial"/>
              </a:rPr>
              <a:t> IRRs could this project hav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06600" y="60958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* Refer to Appendix A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600200" y="2666880"/>
            <a:ext cx="5487840" cy="2973600"/>
          </a:xfrm>
          <a:custGeom>
            <a:avLst/>
            <a:gdLst/>
            <a:ahLst/>
            <a:rect l="l" t="t" r="r" b="b"/>
            <a:pathLst>
              <a:path w="3457" h="1873">
                <a:moveTo>
                  <a:pt x="0" y="1872"/>
                </a:moveTo>
                <a:lnTo>
                  <a:pt x="144" y="1296"/>
                </a:lnTo>
                <a:lnTo>
                  <a:pt x="768" y="0"/>
                </a:lnTo>
                <a:lnTo>
                  <a:pt x="1824" y="720"/>
                </a:lnTo>
                <a:lnTo>
                  <a:pt x="3120" y="1296"/>
                </a:lnTo>
                <a:lnTo>
                  <a:pt x="3456" y="1392"/>
                </a:lnTo>
              </a:path>
            </a:pathLst>
          </a:custGeom>
          <a:noFill/>
          <a:ln cap="rnd" w="2556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391160" cy="1276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114ffb"/>
                </a:solidFill>
                <a:latin typeface="Arial"/>
              </a:rPr>
              <a:t>NPV Profile -- Multiple IRRs</a:t>
            </a:r>
            <a:endParaRPr b="0" i="1" lang="en-US" sz="4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8800" y="1600200"/>
            <a:ext cx="69343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00200" y="2362320"/>
            <a:ext cx="0" cy="32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00200" y="472428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57040" y="6081840"/>
            <a:ext cx="27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Discount Rate (%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416600" y="5700600"/>
            <a:ext cx="562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0        40        80       120      160       20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629400" y="4495320"/>
            <a:ext cx="0" cy="114300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572000" y="3657240"/>
            <a:ext cx="0" cy="198108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05320" y="2819160"/>
            <a:ext cx="0" cy="28191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514600" y="2361960"/>
            <a:ext cx="0" cy="327636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562720" y="3809880"/>
            <a:ext cx="0" cy="182880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00200" y="4038480"/>
            <a:ext cx="426708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00200" y="3276720"/>
            <a:ext cx="251460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0200" y="2438280"/>
            <a:ext cx="114300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00200" y="5638680"/>
            <a:ext cx="5638680" cy="0"/>
          </a:xfrm>
          <a:prstGeom prst="line">
            <a:avLst/>
          </a:prstGeom>
          <a:ln w="12600">
            <a:solidFill>
              <a:srgbClr val="000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16200000">
            <a:off x="-627840" y="3565800"/>
            <a:ext cx="2772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Net Present Value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($000s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49680" y="25970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58960" y="46544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530360" y="55688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25840" y="37400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483240" y="465444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016760" y="4807080"/>
            <a:ext cx="139680" cy="1396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54600" y="2271600"/>
            <a:ext cx="3646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IRRs at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12.95%</a:t>
            </a: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191.15%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1981080" y="3048120"/>
            <a:ext cx="2819520" cy="1600200"/>
          </a:xfrm>
          <a:prstGeom prst="line">
            <a:avLst/>
          </a:prstGeom>
          <a:ln w="12600">
            <a:solidFill>
              <a:srgbClr val="cf76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553080" y="3048120"/>
            <a:ext cx="0" cy="1523880"/>
          </a:xfrm>
          <a:prstGeom prst="line">
            <a:avLst/>
          </a:prstGeom>
          <a:ln w="12600">
            <a:solidFill>
              <a:srgbClr val="cf76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74960" y="225576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90800" y="306216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8200" y="3814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60640" y="45226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95960" y="543096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-100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1676520"/>
            <a:ext cx="533376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475920"/>
            <a:ext cx="67816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Independent Project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15328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405d"/>
                </a:solidFill>
                <a:uFillTx/>
                <a:latin typeface="Arial"/>
              </a:rPr>
              <a:t>Independ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A project whose acceptance (or rejection) does not prevent the acceptance of other projects under considerati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1600200"/>
            <a:ext cx="53341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905120"/>
            <a:ext cx="8153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this project, assume that it is </a:t>
            </a:r>
            <a:r>
              <a:rPr b="1" lang="en-US" sz="3600" spc="-1" strike="noStrike" u="sng">
                <a:solidFill>
                  <a:srgbClr val="e5405d"/>
                </a:solidFill>
                <a:uFillTx/>
                <a:latin typeface="Arial"/>
              </a:rPr>
              <a:t>independent</a:t>
            </a:r>
            <a:r>
              <a:rPr b="1" lang="en-US" sz="3600" spc="-1" strike="noStrike">
                <a:solidFill>
                  <a:srgbClr val="e5405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ny other potential projects that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sket Wonder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may undertake.</a:t>
            </a:r>
            <a:endParaRPr b="0" lang="en-US" sz="36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4495680" y="2057400"/>
            <a:ext cx="4038840" cy="3352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114ffb"/>
                </a:solidFill>
                <a:latin typeface="Arial"/>
              </a:rPr>
              <a:t>NPV Profile -- Multiple IRRs</a:t>
            </a:r>
            <a:endParaRPr b="0" i="1" lang="en-US" sz="4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343400" y="22096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Your calculator will only find ONE IRR – even if there are multiple IRRs.  It will give you the lowest IRR.  In this case, 12.95%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1600200"/>
            <a:ext cx="685800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905120" y="1676520"/>
            <a:ext cx="693396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1030320" y="1905120"/>
            <a:ext cx="2741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5120" y="1676520"/>
            <a:ext cx="579096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391160" cy="1371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ayback Period (PBP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7720" y="3664080"/>
            <a:ext cx="6769080" cy="28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75151"/>
                </a:solidFill>
                <a:latin typeface="Arial"/>
              </a:rPr>
              <a:t>PBP</a:t>
            </a:r>
            <a:r>
              <a:rPr b="1" lang="en-US" sz="3600" spc="-1" strike="noStrike">
                <a:solidFill>
                  <a:srgbClr val="a7515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period of time required for the cumulative expected cash flows from an investment project to equal the initial cash outflow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600200"/>
            <a:ext cx="57913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8280" y="2073240"/>
            <a:ext cx="771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            1              2             3             4           5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514600"/>
            <a:ext cx="0" cy="30492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81952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360" y="2881440"/>
            <a:ext cx="858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40 K          10 K           12 K          15 K           10 K          7 K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57480" y="330048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5800" y="3313080"/>
            <a:ext cx="689616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K           22 K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7 K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 K         54 K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1676520"/>
            <a:ext cx="579096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391160" cy="1371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ayback Solution (#1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65000" y="4200480"/>
            <a:ext cx="6566040" cy="2486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75151"/>
                </a:solidFill>
                <a:latin typeface="Arial"/>
              </a:rPr>
              <a:t>PB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400" spc="-1" strike="noStrike">
                <a:solidFill>
                  <a:srgbClr val="42b200"/>
                </a:solidFill>
                <a:latin typeface="Arial"/>
              </a:rPr>
              <a:t>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 ( </a:t>
            </a:r>
            <a:r>
              <a:rPr b="1" lang="en-US" sz="3400" spc="-1" strike="noStrike">
                <a:solidFill>
                  <a:srgbClr val="cf76f4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380069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400" spc="-1" strike="noStrike">
                <a:solidFill>
                  <a:srgbClr val="114ffb"/>
                </a:solidFill>
                <a:latin typeface="Arial"/>
              </a:rPr>
              <a:t>c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/ </a:t>
            </a:r>
            <a:r>
              <a:rPr b="1" lang="en-US" sz="3400" spc="-1" strike="noStrike">
                <a:solidFill>
                  <a:srgbClr val="e5405d"/>
                </a:solidFill>
                <a:latin typeface="Arial"/>
              </a:rPr>
              <a:t>d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400" spc="-1" strike="noStrike">
                <a:solidFill>
                  <a:srgbClr val="42b2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1" lang="en-US" sz="3400" spc="-1" strike="noStrike">
                <a:solidFill>
                  <a:srgbClr val="cf76f4"/>
                </a:solidFill>
                <a:latin typeface="Arial"/>
              </a:rPr>
              <a:t>40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400" spc="-1" strike="noStrike">
                <a:solidFill>
                  <a:srgbClr val="114ffb"/>
                </a:solidFill>
                <a:latin typeface="Arial"/>
              </a:rPr>
              <a:t>37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/ </a:t>
            </a:r>
            <a:r>
              <a:rPr b="1" lang="en-US" sz="3400" spc="-1" strike="noStrike">
                <a:solidFill>
                  <a:srgbClr val="e5405d"/>
                </a:solidFill>
                <a:latin typeface="Arial"/>
              </a:rPr>
              <a:t>10</a:t>
            </a:r>
            <a:r>
              <a:rPr b="1" lang="en-US" sz="34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400" spc="-1" strike="noStrike">
                <a:solidFill>
                  <a:srgbClr val="42b2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1" lang="en-US" sz="3400" spc="-1" strike="noStrike">
                <a:solidFill>
                  <a:srgbClr val="cf76f4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/ </a:t>
            </a:r>
            <a:r>
              <a:rPr b="1" lang="en-US" sz="3400" spc="-1" strike="noStrike">
                <a:solidFill>
                  <a:srgbClr val="e5405d"/>
                </a:solidFill>
                <a:latin typeface="Arial"/>
              </a:rPr>
              <a:t>10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400" spc="-1" strike="noStrike">
                <a:solidFill>
                  <a:srgbClr val="a75151"/>
                </a:solidFill>
                <a:latin typeface="Arial"/>
              </a:rPr>
              <a:t>3.3 Year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600200"/>
            <a:ext cx="57913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7920" y="2073240"/>
            <a:ext cx="7809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            1              2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4           5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514600"/>
            <a:ext cx="0" cy="30492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81952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1360" y="2881440"/>
            <a:ext cx="858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40 K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K           12 K          15 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10 K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K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880" y="4062240"/>
            <a:ext cx="1824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ows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5840" y="3583080"/>
            <a:ext cx="1676520" cy="89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4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489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71640" y="2062080"/>
            <a:ext cx="5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b2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3200" y="2852640"/>
            <a:ext cx="67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006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-b</a:t>
            </a:r>
            <a:r>
              <a:rPr b="1" lang="en-US" sz="2400" spc="-1" strike="noStrike">
                <a:solidFill>
                  <a:srgbClr val="38006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23840" y="2871720"/>
            <a:ext cx="57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405d"/>
                </a:solidFill>
                <a:latin typeface="Arial"/>
              </a:rPr>
              <a:t>(d)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62400" y="3343320"/>
            <a:ext cx="78768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35680" y="2101680"/>
            <a:ext cx="711000" cy="397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30920" y="2838600"/>
            <a:ext cx="774720" cy="479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676520"/>
            <a:ext cx="579096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391160" cy="1371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ecec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14ffb"/>
                </a:solidFill>
                <a:latin typeface="Arial"/>
              </a:rPr>
              <a:t>Payback Solution (#2)</a:t>
            </a:r>
            <a:endParaRPr b="0" i="1" lang="en-US" sz="4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43280" y="4143240"/>
            <a:ext cx="6829200" cy="2486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ecece"/>
            </a:outerShdw>
          </a:effectLst>
        </p:spPr>
        <p:txBody>
          <a:bodyPr lIns="90360" rIns="90360" tIns="44280" bIns="44280" anchor="t">
            <a:normAutofit fontScale="95000"/>
          </a:bodyPr>
          <a:p>
            <a:pPr lvl="1" marL="705600" indent="0"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75151"/>
                </a:solidFill>
                <a:latin typeface="Arial"/>
              </a:rPr>
              <a:t>PB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400" spc="-1" strike="noStrike">
                <a:solidFill>
                  <a:srgbClr val="014a01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 ( </a:t>
            </a:r>
            <a:r>
              <a:rPr b="1" lang="en-US" sz="3400" spc="-1" strike="noStrike">
                <a:solidFill>
                  <a:srgbClr val="e5405d"/>
                </a:solidFill>
                <a:latin typeface="Arial"/>
              </a:rPr>
              <a:t>3K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/ </a:t>
            </a:r>
            <a:r>
              <a:rPr b="1" lang="en-US" sz="3400" spc="-1" strike="noStrike">
                <a:solidFill>
                  <a:srgbClr val="cf76f4"/>
                </a:solidFill>
                <a:latin typeface="Arial"/>
              </a:rPr>
              <a:t>10K</a:t>
            </a:r>
            <a:r>
              <a:rPr b="1" lang="en-US" sz="34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400" spc="-1" strike="noStrike">
                <a:solidFill>
                  <a:srgbClr val="a75151"/>
                </a:solidFill>
                <a:latin typeface="Arial"/>
              </a:rPr>
              <a:t>3.3 Year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 Take absolute value of last negative cumulative cash flow valu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600200"/>
            <a:ext cx="57913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514600"/>
            <a:ext cx="0" cy="304920"/>
          </a:xfrm>
          <a:prstGeom prst="line">
            <a:avLst/>
          </a:prstGeom>
          <a:ln w="25560">
            <a:solidFill>
              <a:srgbClr val="00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81952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160" y="4805280"/>
            <a:ext cx="1770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04"/>
                </a:solidFill>
                <a:latin typeface="Arial"/>
              </a:rPr>
              <a:t>Cumulative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04"/>
                </a:solidFill>
                <a:latin typeface="Arial"/>
              </a:rPr>
              <a:t>Cash Flows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257480" y="3943080"/>
            <a:ext cx="399960" cy="771480"/>
          </a:xfrm>
          <a:prstGeom prst="line">
            <a:avLst/>
          </a:prstGeom>
          <a:ln w="12600">
            <a:solidFill>
              <a:srgbClr val="00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58080" y="2114640"/>
            <a:ext cx="0" cy="1914480"/>
          </a:xfrm>
          <a:prstGeom prst="line">
            <a:avLst/>
          </a:prstGeom>
          <a:ln w="12600">
            <a:solidFill>
              <a:srgbClr val="0004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1360" y="2881440"/>
            <a:ext cx="858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-40 K          10 K           12 K          15 K</a:t>
            </a:r>
            <a:r>
              <a:rPr b="1" i="1" lang="en-US" sz="2400" spc="-1" strike="noStrike">
                <a:solidFill>
                  <a:srgbClr val="000404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cf76f4"/>
                </a:solidFill>
                <a:latin typeface="Arial"/>
              </a:rPr>
              <a:t>10 K          </a:t>
            </a:r>
            <a:r>
              <a:rPr b="1" lang="en-US" sz="2400" spc="-1" strike="noStrike">
                <a:solidFill>
                  <a:srgbClr val="000404"/>
                </a:solidFill>
                <a:latin typeface="Arial"/>
              </a:rPr>
              <a:t>7 K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7920" y="2073240"/>
            <a:ext cx="7809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0             1              2            </a:t>
            </a:r>
            <a:r>
              <a:rPr b="1" lang="en-US" sz="2800" spc="-1" strike="noStrike">
                <a:solidFill>
                  <a:srgbClr val="014a01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404"/>
                </a:solidFill>
                <a:latin typeface="Arial"/>
              </a:rPr>
              <a:t>               4           5</a:t>
            </a:r>
            <a:endParaRPr b="0" lang="en-US" sz="2800" spc="-1" strike="noStrike">
              <a:solidFill>
                <a:srgbClr val="00040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9480" y="3341520"/>
            <a:ext cx="837720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405d"/>
                </a:solidFill>
                <a:latin typeface="Arial"/>
              </a:rPr>
              <a:t>-40 K         -30 K          -18 K          -3 K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            7 K         14 K</a:t>
            </a:r>
            <a:endParaRPr b="0" lang="en-US" sz="2400" spc="-1" strike="noStrike">
              <a:solidFill>
                <a:srgbClr val="00040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21:41:18Z</dcterms:created>
  <dc:creator>Gregory A. Kuhlemeyer</dc:creator>
  <dc:description/>
  <dc:language>en-US</dc:language>
  <cp:lastModifiedBy> </cp:lastModifiedBy>
  <cp:lastPrinted>1996-09-19T14:18:28Z</cp:lastPrinted>
  <dcterms:modified xsi:type="dcterms:W3CDTF">2004-09-09T12:42:17Z</dcterms:modified>
  <cp:revision>27</cp:revision>
  <dc:subject>Van Horne / Wachowicz Tenth Edition</dc:subject>
  <dc:title>Chapter 13 -- Capital Budgeting Techniques</dc:title>
</cp:coreProperties>
</file>